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F6B-2367-4D50-92F9-A58765DD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694-B9D3-479D-AB1D-05C03A6F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90E-CEBC-4706-9F10-3FDE28DC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969-5DE2-47D7-A3EA-295B85C3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58FE-6232-4E6F-A996-092A76DA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AA31-E2AB-44A6-9337-5BF406E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FD50-DC96-4F1C-A811-2D6713D3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1339-D13B-4734-AFD2-A2A05DAD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4D4A-1562-45C9-BDA9-02C1BE18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0794-A227-4301-9D4A-7B04334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0641-CB72-4ED3-9D52-666B25A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5AC-B8D5-4852-9982-3E809045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DCA6-8274-4387-AE68-926EE9B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AC4F-7F7B-4BFA-9D11-393565E5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0D26-4936-4D1C-ACB7-7394451E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A23A-A9DD-4367-BD64-395D0A7B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EA55-2E6A-4135-B9C6-95C0281F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39E-8199-475D-A6DD-D2A1FAFE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AC6-135C-499A-BDBA-37C7AE8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CC0-4772-43C4-A2A7-EE65570F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297-B217-4D86-A063-23C12BC9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F2C-9B92-4ABC-AEA4-1CDFB72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A32-D289-467D-823B-A8A0C0E6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857-3C7D-41E3-9F46-B30FA703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9F1A-23AF-4976-8AB6-2345481EB8F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5562-F9AA-4B6A-9C23-2DBD02BEAC5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Tahoma"/>
              </a:rPr>
              <a:t>SMART GOALS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18960" y="274284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hat are the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hy use the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ow do you                                 write the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SMART Goal Conclusion…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3353040"/>
          </a:xfrm>
          <a:prstGeom prst="rect">
            <a:avLst/>
          </a:prstGeom>
          <a:solidFill>
            <a:srgbClr val="000099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ring the 2006-07 school year, SAMPLE school will increase students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proficiency in vocabulary skills in the non-proficient student subgroups as measured by the ITBS vocabulary sub test assessment (See targets below for each non-proficient sub grou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4191120"/>
          <a:ext cx="8229600" cy="1981080"/>
        </p:xfrm>
        <a:graphic>
          <a:graphicData uri="http://schemas.openxmlformats.org/drawingml/2006/table">
            <a:tbl>
              <a:tblPr/>
              <a:tblGrid>
                <a:gridCol w="3200400"/>
                <a:gridCol w="243864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Arial"/>
                        </a:rPr>
                        <a:t>Sub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Arial"/>
                        </a:rPr>
                        <a:t>05-06 Ac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Arial"/>
                        </a:rPr>
                        <a:t>06-07 Targ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African Americ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7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American Ind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I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Free &amp; Reduc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8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16405" t="18753" r="14844" b="17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Oval 5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2057400" y="2514600"/>
            <a:ext cx="609480" cy="533520"/>
          </a:xfrm>
          <a:prstGeom prst="ellipse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276720" y="2362320"/>
            <a:ext cx="3886200" cy="2043720"/>
          </a:xfrm>
          <a:prstGeom prst="rect">
            <a:avLst/>
          </a:prstGeom>
          <a:solidFill>
            <a:srgbClr val="0000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What SMART Goal would you suggest for this probl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rcRect l="16405" t="18753" r="14844" b="17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2971800" y="1981080"/>
            <a:ext cx="4495680" cy="1556280"/>
          </a:xfrm>
          <a:prstGeom prst="rect">
            <a:avLst/>
          </a:prstGeom>
          <a:solidFill>
            <a:srgbClr val="0000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We will work on reducing office referr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971800" y="1981080"/>
            <a:ext cx="4495680" cy="2531160"/>
          </a:xfrm>
          <a:prstGeom prst="rect">
            <a:avLst/>
          </a:prstGeom>
          <a:solidFill>
            <a:srgbClr val="0000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During the 2006-07 school year, Sample School will increase the respect shown by stu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505320" y="1371600"/>
            <a:ext cx="4495680" cy="448092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During the 2006-07 school year, Sample School will increase the respect shown by students as measured by a 15% reduction in office referrals due to </a:t>
            </a:r>
            <a:r>
              <a:rPr b="1" lang="ja-JP" sz="3200" spc="-1" strike="noStrike">
                <a:solidFill>
                  <a:srgbClr val="000066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disrespect.</a:t>
            </a:r>
            <a:r>
              <a:rPr b="1" lang="ja-JP" sz="3200" spc="-1" strike="noStrike">
                <a:solidFill>
                  <a:srgbClr val="000066"/>
                </a:solidFill>
                <a:latin typeface="Arial"/>
                <a:ea typeface="Arial"/>
              </a:rPr>
              <a:t>”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57800" y="6091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Aligning School Improvement Plans to the District Strategic Plan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rcRect l="23441" t="10376" r="23441" b="0"/>
          <a:stretch/>
        </p:blipFill>
        <p:spPr>
          <a:xfrm>
            <a:off x="228600" y="304920"/>
            <a:ext cx="4938840" cy="624816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185" name="WordArt 4"/>
          <p:cNvSpPr txBox="1"/>
          <p:nvPr/>
        </p:nvSpPr>
        <p:spPr>
          <a:xfrm>
            <a:off x="1295280" y="4419720"/>
            <a:ext cx="358164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MART Goa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23438" t="9376" r="25003" b="8333"/>
          <a:stretch/>
        </p:blipFill>
        <p:spPr>
          <a:xfrm>
            <a:off x="121932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5"/>
          <p:cNvSpPr txBox="1"/>
          <p:nvPr/>
        </p:nvSpPr>
        <p:spPr>
          <a:xfrm rot="20137200">
            <a:off x="380880" y="2133360"/>
            <a:ext cx="8001000" cy="21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3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MART Goal Templat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3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23438" t="13540" r="22659" b="7294"/>
          <a:stretch/>
        </p:blipFill>
        <p:spPr>
          <a:xfrm>
            <a:off x="0" y="0"/>
            <a:ext cx="62262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 rot="19792200">
            <a:off x="4712040" y="2184120"/>
            <a:ext cx="4572000" cy="825120"/>
          </a:xfrm>
          <a:prstGeom prst="rect">
            <a:avLst/>
          </a:prstGeom>
          <a:solidFill>
            <a:srgbClr val="66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Arial"/>
              </a:rPr>
              <a:t>SMART Go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0" y="0"/>
            <a:ext cx="4952880" cy="457200"/>
          </a:xfrm>
          <a:prstGeom prst="ellipse">
            <a:avLst/>
          </a:prstGeom>
          <a:solidFill>
            <a:srgbClr val="66cc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0" y="1447920"/>
            <a:ext cx="6019920" cy="609480"/>
          </a:xfrm>
          <a:prstGeom prst="ellipse">
            <a:avLst/>
          </a:prstGeom>
          <a:solidFill>
            <a:srgbClr val="66cc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0" y="3352680"/>
            <a:ext cx="4419720" cy="457200"/>
          </a:xfrm>
          <a:prstGeom prst="ellipse">
            <a:avLst/>
          </a:prstGeom>
          <a:solidFill>
            <a:srgbClr val="66cc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0" y="4876920"/>
            <a:ext cx="5791320" cy="457200"/>
          </a:xfrm>
          <a:prstGeom prst="ellipse">
            <a:avLst/>
          </a:prstGeom>
          <a:solidFill>
            <a:srgbClr val="66cc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459080" y="7518240"/>
            <a:ext cx="187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74840" y="7518240"/>
            <a:ext cx="284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920" y="30492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Arial"/>
              </a:rPr>
              <a:t>SMART GOALS </a:t>
            </a:r>
            <a:r>
              <a:rPr b="1" i="1" lang="en-US" sz="5400" spc="-1" strike="noStrike">
                <a:solidFill>
                  <a:srgbClr val="eaeaea"/>
                </a:solidFill>
                <a:latin typeface="Times New Roman"/>
                <a:ea typeface="Arial"/>
              </a:rPr>
              <a:t>Exampl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rcRect l="16405" t="22917" r="15626" b="21878"/>
          <a:stretch/>
        </p:blipFill>
        <p:spPr>
          <a:xfrm>
            <a:off x="304920" y="1295280"/>
            <a:ext cx="8534160" cy="51991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380880" y="3429000"/>
            <a:ext cx="251460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71800" y="3429000"/>
            <a:ext cx="182880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2819520" y="3657600"/>
            <a:ext cx="335268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380880" y="3657600"/>
            <a:ext cx="8153640" cy="457200"/>
            <a:chOff x="380880" y="3657600"/>
            <a:chExt cx="8153640" cy="457200"/>
          </a:xfrm>
        </p:grpSpPr>
        <p:sp>
          <p:nvSpPr>
            <p:cNvPr id="206" name="Rectangle 10"/>
            <p:cNvSpPr/>
            <p:nvPr/>
          </p:nvSpPr>
          <p:spPr>
            <a:xfrm>
              <a:off x="6172200" y="3657600"/>
              <a:ext cx="2362320" cy="22860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380880" y="3886200"/>
              <a:ext cx="8153640" cy="22860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762120" y="4572000"/>
            <a:ext cx="6095880" cy="18288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rcRect l="15626" t="27086" r="14844" b="39588"/>
          <a:stretch/>
        </p:blipFill>
        <p:spPr>
          <a:xfrm>
            <a:off x="0" y="0"/>
            <a:ext cx="9144000" cy="3135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rcRect l="14065" t="28867" r="12500" b="45834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0" y="1828800"/>
            <a:ext cx="3048120" cy="30492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1066680" y="1828800"/>
            <a:ext cx="7467840" cy="990720"/>
            <a:chOff x="1066680" y="1828800"/>
            <a:chExt cx="7467840" cy="990720"/>
          </a:xfrm>
        </p:grpSpPr>
        <p:sp>
          <p:nvSpPr>
            <p:cNvPr id="214" name="Rectangle 7"/>
            <p:cNvSpPr/>
            <p:nvPr/>
          </p:nvSpPr>
          <p:spPr>
            <a:xfrm>
              <a:off x="3429000" y="1828800"/>
              <a:ext cx="3733920" cy="22860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1066680" y="2133720"/>
              <a:ext cx="7467840" cy="68580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Rectangle 9"/>
          <p:cNvSpPr/>
          <p:nvPr/>
        </p:nvSpPr>
        <p:spPr>
          <a:xfrm>
            <a:off x="228600" y="2819520"/>
            <a:ext cx="754380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28600" y="5105520"/>
            <a:ext cx="289548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124080" y="5105520"/>
            <a:ext cx="5181840" cy="30456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Group 12"/>
          <p:cNvGrpSpPr/>
          <p:nvPr/>
        </p:nvGrpSpPr>
        <p:grpSpPr>
          <a:xfrm>
            <a:off x="304920" y="5410080"/>
            <a:ext cx="8381880" cy="914400"/>
            <a:chOff x="304920" y="5410080"/>
            <a:chExt cx="8381880" cy="914400"/>
          </a:xfrm>
        </p:grpSpPr>
        <p:sp>
          <p:nvSpPr>
            <p:cNvPr id="220" name="Rectangle 13"/>
            <p:cNvSpPr/>
            <p:nvPr/>
          </p:nvSpPr>
          <p:spPr>
            <a:xfrm>
              <a:off x="5486400" y="5410080"/>
              <a:ext cx="3200400" cy="30492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304920" y="5715000"/>
              <a:ext cx="8381880" cy="60948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30477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Tahoma"/>
              </a:rPr>
              <a:t>Practice Writing SMART Goals…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Improve This Goal…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very student will show evidence of one year of growth in mathematics each year in attendanc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80880" y="61722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Garamond"/>
                <a:ea typeface="Arial"/>
              </a:rPr>
              <a:t>SPECIFIC - MEASUREABLE  -  ATTAINABLE - REALISTIC - TIME-B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Tahoma"/>
              </a:rPr>
              <a:t>Why SMART Goals?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oals are something that you want to achieve in the fu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RT goals assist in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tting focused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n what to focus efforts to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RT goals help define exactly what the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uture stat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looks like and how it will be measur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RT goals show others how their work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igns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and relates to the focus of th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431720"/>
          </a:xfrm>
          <a:prstGeom prst="rect">
            <a:avLst/>
          </a:prstGeom>
          <a:solidFill>
            <a:srgbClr val="66ccff">
              <a:alpha val="3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Original: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  Every student will show evidence of one year of growth in mathematics each year in attendanc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SMART GOAL: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During the 2006-07 school year, all students will improve their math problem-solving skills as measured by a 1.0 year gain in national grade equivalent growth from the 2005-06 to the 2006-07 ITBS math problem solving sub te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Improve This Goal…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46640" indent="-74664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udents will meet or exceed the district writing expectations as measured by the six-traits writing sample scoring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80880" y="61722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Garamond"/>
                <a:ea typeface="Arial"/>
              </a:rPr>
              <a:t>SPECIFIC - MEASUREABLE  -  ATTAINABLE - REALISTIC - TIME-B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1218960"/>
          </a:xfrm>
          <a:prstGeom prst="rect">
            <a:avLst/>
          </a:prstGeom>
          <a:solidFill>
            <a:srgbClr val="66ccff">
              <a:alpha val="3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Original: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 Students will meet or exceed the district writing expectations as measured by the six-traits writing sample scoring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3886200"/>
          <a:ext cx="8610480" cy="2803680"/>
        </p:xfrm>
        <a:graphic>
          <a:graphicData uri="http://schemas.openxmlformats.org/drawingml/2006/table">
            <a:tbl>
              <a:tblPr/>
              <a:tblGrid>
                <a:gridCol w="1904760"/>
                <a:gridCol w="1828800"/>
                <a:gridCol w="2514600"/>
                <a:gridCol w="2362320"/>
              </a:tblGrid>
              <a:tr h="3510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formance Targe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ubric Target score at/above 3-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de Leve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cus Are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-06 % at/abo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-07 % at/abo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indergarte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a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rst grade    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ganiz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cond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ganiz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ird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rd 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urth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rd 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fth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ntio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206"/>
          <p:cNvSpPr/>
          <p:nvPr/>
        </p:nvSpPr>
        <p:spPr>
          <a:xfrm>
            <a:off x="-4546440" y="1105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1905120"/>
          </a:xfrm>
          <a:prstGeom prst="rect">
            <a:avLst/>
          </a:prstGeom>
          <a:solidFill>
            <a:srgbClr val="66ccff">
              <a:alpha val="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MART GOAL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During the 2006-07 school year, the number of first through fifth grade regular education students at Sample School improving their writing skills in targeted traits will increase 5% at each grade level (see chart below) as measured by the Six-Traits scoring rubric monthly grade level assess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Improve This Goal…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tudents will show one year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 growth in Language Total as measured by ITB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80880" y="61722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Garamond"/>
                <a:ea typeface="Arial"/>
              </a:rPr>
              <a:t>SPECIFIC - MEASUREABLE  -  ATTAINABLE - REALISTIC - TIME-B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203480"/>
          </a:xfrm>
          <a:prstGeom prst="rect">
            <a:avLst/>
          </a:prstGeom>
          <a:solidFill>
            <a:srgbClr val="66ccff">
              <a:alpha val="3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Original: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 Students will show one year</a:t>
            </a:r>
            <a:r>
              <a:rPr b="1" i="1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s growth in Language Total as measured by ITBS.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MART GOAL: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uring the 2006-07 school year, non-proficient students (as indicated by the ITBS vocabulary subtest) at Sample School will improve their vocabulary skills by 5%  as measured by an increase in the percentage of students scoring in the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ficien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levels on the ITBS vocabulary assess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rcRect l="25782" t="13540" r="25782" b="6251"/>
          <a:stretch/>
        </p:blipFill>
        <p:spPr>
          <a:xfrm>
            <a:off x="190512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MART Goals-Found in the 4 Quality Level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22659" t="33337" r="21876" b="23704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295280" y="2057400"/>
            <a:ext cx="6019920" cy="304920"/>
          </a:xfrm>
          <a:prstGeom prst="rect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371600" y="2362320"/>
            <a:ext cx="6400800" cy="304560"/>
          </a:xfrm>
          <a:prstGeom prst="rect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295280" y="4038480"/>
            <a:ext cx="7315200" cy="457200"/>
          </a:xfrm>
          <a:prstGeom prst="rect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295280" y="4495680"/>
            <a:ext cx="7467840" cy="381240"/>
          </a:xfrm>
          <a:prstGeom prst="rect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371600" y="751824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00400" y="7518240"/>
            <a:ext cx="217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80880" y="2286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Arial"/>
              </a:rPr>
              <a:t>What Are SMART GOALS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80880" y="1600200"/>
            <a:ext cx="7772400" cy="61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US" sz="6800" spc="-1" strike="noStrike">
                <a:solidFill>
                  <a:srgbClr val="0066ff"/>
                </a:solidFill>
                <a:latin typeface="Times New Roman"/>
                <a:ea typeface="Arial"/>
              </a:rPr>
              <a:t>S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cific, strateg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6800" spc="-1" strike="noStrike">
                <a:solidFill>
                  <a:srgbClr val="0066ff"/>
                </a:solidFill>
                <a:latin typeface="Times New Roman"/>
                <a:ea typeface="Arial"/>
              </a:rPr>
              <a:t>M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surab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6800" spc="-1" strike="noStrike">
                <a:solidFill>
                  <a:srgbClr val="0066ff"/>
                </a:solidFill>
                <a:latin typeface="Times New Roman"/>
                <a:ea typeface="Arial"/>
              </a:rPr>
              <a:t>A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tainab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6200" spc="-1" strike="noStrike">
                <a:solidFill>
                  <a:srgbClr val="0066ff"/>
                </a:solidFill>
                <a:latin typeface="Times New Roman"/>
                <a:ea typeface="Arial"/>
              </a:rPr>
              <a:t>R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sults-orient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6800" spc="-1" strike="noStrike">
                <a:solidFill>
                  <a:srgbClr val="0066ff"/>
                </a:solidFill>
                <a:latin typeface="Times New Roman"/>
                <a:ea typeface="Arial"/>
              </a:rPr>
              <a:t>T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me-bound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How To Write SMART Goal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entify the </a:t>
            </a:r>
            <a:r>
              <a:rPr b="1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ig, hairy audacious, critical-few</a:t>
            </a:r>
            <a:r>
              <a:rPr b="1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oals that need to be worked on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(The Most Important Ones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ult the data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are the greatest areas in need of improvem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g deep and get specific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disaggregate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f all you did was spend time on the identified SMART goals, would the time be well-spent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rcRect l="22659" t="29168" r="21876" b="197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2743200" y="0"/>
            <a:ext cx="380988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TBS Language Total Sc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5"/>
          <p:cNvSpPr/>
          <p:nvPr/>
        </p:nvSpPr>
        <p:spPr>
          <a:xfrm rot="20524800">
            <a:off x="6546960" y="1530000"/>
            <a:ext cx="2216160" cy="785880"/>
          </a:xfrm>
          <a:prstGeom prst="ellipse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523880" y="1447920"/>
            <a:ext cx="5334120" cy="642600"/>
            <a:chOff x="1523880" y="1447920"/>
            <a:chExt cx="5334120" cy="642600"/>
          </a:xfrm>
        </p:grpSpPr>
        <p:sp>
          <p:nvSpPr>
            <p:cNvPr id="131" name="Text Box 6"/>
            <p:cNvSpPr/>
            <p:nvPr/>
          </p:nvSpPr>
          <p:spPr>
            <a:xfrm>
              <a:off x="1523880" y="1447920"/>
              <a:ext cx="4724640" cy="642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This data shows 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“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the big picture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”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 of language proficiency 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095880" y="1600200"/>
              <a:ext cx="762120" cy="228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22659" t="25004" r="22659" b="229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Oval 4"/>
          <p:cNvSpPr/>
          <p:nvPr/>
        </p:nvSpPr>
        <p:spPr>
          <a:xfrm rot="20524800">
            <a:off x="6629400" y="2666520"/>
            <a:ext cx="2216160" cy="785880"/>
          </a:xfrm>
          <a:prstGeom prst="ellipse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5"/>
          <p:cNvSpPr/>
          <p:nvPr/>
        </p:nvSpPr>
        <p:spPr>
          <a:xfrm flipV="1">
            <a:off x="609480" y="2057400"/>
            <a:ext cx="7467840" cy="76320"/>
          </a:xfrm>
          <a:prstGeom prst="line">
            <a:avLst/>
          </a:prstGeom>
          <a:ln w="101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7315200" y="6324480"/>
            <a:ext cx="1143000" cy="533520"/>
          </a:xfrm>
          <a:prstGeom prst="ellipse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Group 17"/>
          <p:cNvGrpSpPr/>
          <p:nvPr/>
        </p:nvGrpSpPr>
        <p:grpSpPr>
          <a:xfrm>
            <a:off x="2438280" y="1066680"/>
            <a:ext cx="5257800" cy="5181480"/>
            <a:chOff x="2438280" y="1066680"/>
            <a:chExt cx="5257800" cy="5181480"/>
          </a:xfrm>
        </p:grpSpPr>
        <p:sp>
          <p:nvSpPr>
            <p:cNvPr id="139" name="Text Box 8"/>
            <p:cNvSpPr/>
            <p:nvPr/>
          </p:nvSpPr>
          <p:spPr>
            <a:xfrm>
              <a:off x="2438280" y="1066680"/>
              <a:ext cx="4724280" cy="642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This data  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“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digs deeper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”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 through sub test areas of language skills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7010280" y="1218960"/>
              <a:ext cx="6858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6933960" y="1295280"/>
              <a:ext cx="609480" cy="4952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rcRect l="27343" t="12502" r="42191" b="12502"/>
          <a:stretch/>
        </p:blipFill>
        <p:spPr>
          <a:xfrm>
            <a:off x="0" y="990720"/>
            <a:ext cx="3178080" cy="586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"/>
          <p:cNvPicPr/>
          <p:nvPr/>
        </p:nvPicPr>
        <p:blipFill>
          <a:blip r:embed="rId2">
            <a:lum bright="74000"/>
          </a:blip>
          <a:srcRect l="27380" t="12502" r="42194" b="12502"/>
          <a:stretch/>
        </p:blipFill>
        <p:spPr>
          <a:xfrm>
            <a:off x="3240" y="990720"/>
            <a:ext cx="31748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rcRect l="27971" t="63336" r="43283" b="12502"/>
          <a:stretch/>
        </p:blipFill>
        <p:spPr>
          <a:xfrm>
            <a:off x="838080" y="0"/>
            <a:ext cx="8305920" cy="5237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5"/>
          <p:cNvSpPr/>
          <p:nvPr/>
        </p:nvSpPr>
        <p:spPr>
          <a:xfrm>
            <a:off x="1143000" y="990720"/>
            <a:ext cx="7696080" cy="45720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1143000" y="2209680"/>
            <a:ext cx="7696080" cy="45720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066680" y="3352680"/>
            <a:ext cx="7696440" cy="53352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1143000" y="2666880"/>
            <a:ext cx="7696080" cy="38124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1066680" y="4191120"/>
            <a:ext cx="7696440" cy="45720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0" name="Group 29"/>
          <p:cNvGrpSpPr/>
          <p:nvPr/>
        </p:nvGrpSpPr>
        <p:grpSpPr>
          <a:xfrm>
            <a:off x="1523520" y="4572000"/>
            <a:ext cx="7163280" cy="1785600"/>
            <a:chOff x="1523520" y="4572000"/>
            <a:chExt cx="7163280" cy="1785600"/>
          </a:xfrm>
        </p:grpSpPr>
        <p:sp>
          <p:nvSpPr>
            <p:cNvPr id="151" name="Text Box 25"/>
            <p:cNvSpPr/>
            <p:nvPr/>
          </p:nvSpPr>
          <p:spPr>
            <a:xfrm>
              <a:off x="2133720" y="5715000"/>
              <a:ext cx="6553080" cy="6426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This data  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“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digs deeper through desegregation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”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 of student subgroup population proficiency 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26"/>
            <p:cNvSpPr/>
            <p:nvPr/>
          </p:nvSpPr>
          <p:spPr>
            <a:xfrm flipV="1">
              <a:off x="8077320" y="4572000"/>
              <a:ext cx="2286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 flipV="1">
              <a:off x="1523520" y="4648320"/>
              <a:ext cx="6858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5"/>
          <p:cNvGrpSpPr/>
          <p:nvPr/>
        </p:nvGrpSpPr>
        <p:grpSpPr>
          <a:xfrm>
            <a:off x="-1905120" y="762120"/>
            <a:ext cx="10362960" cy="6705000"/>
            <a:chOff x="-1905120" y="762120"/>
            <a:chExt cx="10362960" cy="6705000"/>
          </a:xfrm>
        </p:grpSpPr>
        <p:sp>
          <p:nvSpPr>
            <p:cNvPr id="155" name="AutoShape 4"/>
            <p:cNvSpPr/>
            <p:nvPr/>
          </p:nvSpPr>
          <p:spPr>
            <a:xfrm>
              <a:off x="-1905120" y="762120"/>
              <a:ext cx="10362960" cy="67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40970"/>
            <p:cNvSpPr/>
            <p:nvPr/>
          </p:nvSpPr>
          <p:spPr>
            <a:xfrm>
              <a:off x="984600" y="2325960"/>
              <a:ext cx="3174480" cy="3579120"/>
            </a:xfrm>
            <a:custGeom>
              <a:avLst/>
              <a:gdLst>
                <a:gd name="textAreaLeft" fmla="*/ 465840 w 3174480"/>
                <a:gd name="textAreaRight" fmla="*/ 2708640 w 3174480"/>
                <a:gd name="textAreaTop" fmla="*/ 525240 h 3579120"/>
                <a:gd name="textAreaBottom" fmla="*/ 3053880 h 357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600" y="10800"/>
                  </a:moveTo>
                  <a:cubicBezTo>
                    <a:pt x="3600" y="14776"/>
                    <a:pt x="6824" y="18000"/>
                    <a:pt x="10800" y="18000"/>
                  </a:cubicBezTo>
                  <a:cubicBezTo>
                    <a:pt x="14776" y="18000"/>
                    <a:pt x="18000" y="14776"/>
                    <a:pt x="18000" y="10800"/>
                  </a:cubicBezTo>
                  <a:cubicBezTo>
                    <a:pt x="18000" y="6824"/>
                    <a:pt x="14776" y="3600"/>
                    <a:pt x="10800" y="3600"/>
                  </a:cubicBezTo>
                  <a:cubicBezTo>
                    <a:pt x="6824" y="3600"/>
                    <a:pt x="3600" y="6824"/>
                    <a:pt x="3600" y="10800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_s40971"/>
            <p:cNvSpPr/>
            <p:nvPr/>
          </p:nvSpPr>
          <p:spPr>
            <a:xfrm>
              <a:off x="5252400" y="2524680"/>
              <a:ext cx="846720" cy="795600"/>
            </a:xfr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ffff"/>
                  </a:solidFill>
                  <a:latin typeface="Tahoma"/>
                </a:rPr>
                <a:t>Communication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_s40968"/>
            <p:cNvSpPr/>
            <p:nvPr/>
          </p:nvSpPr>
          <p:spPr>
            <a:xfrm>
              <a:off x="1513800" y="2922120"/>
              <a:ext cx="2116440" cy="2386800"/>
            </a:xfrm>
            <a:custGeom>
              <a:avLst/>
              <a:gdLst>
                <a:gd name="textAreaLeft" fmla="*/ 309240 w 2116440"/>
                <a:gd name="textAreaRight" fmla="*/ 1807200 w 2116440"/>
                <a:gd name="textAreaTop" fmla="*/ 348480 h 2386800"/>
                <a:gd name="textAreaBottom" fmla="*/ 2038320 h 238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_s40969"/>
            <p:cNvSpPr/>
            <p:nvPr/>
          </p:nvSpPr>
          <p:spPr>
            <a:xfrm>
              <a:off x="5252400" y="1729080"/>
              <a:ext cx="846720" cy="795600"/>
            </a:xfr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ahoma"/>
                </a:rPr>
                <a:t>Language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_s40966"/>
            <p:cNvSpPr/>
            <p:nvPr/>
          </p:nvSpPr>
          <p:spPr>
            <a:xfrm>
              <a:off x="2042640" y="3519000"/>
              <a:ext cx="1058040" cy="1193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_s40967"/>
            <p:cNvSpPr/>
            <p:nvPr/>
          </p:nvSpPr>
          <p:spPr>
            <a:xfrm>
              <a:off x="5252400" y="933840"/>
              <a:ext cx="846720" cy="794880"/>
            </a:xfr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99"/>
                  </a:solidFill>
                  <a:latin typeface="Tahoma"/>
                </a:rPr>
                <a:t>Vocabulary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Group 16"/>
          <p:cNvGrpSpPr/>
          <p:nvPr/>
        </p:nvGrpSpPr>
        <p:grpSpPr>
          <a:xfrm>
            <a:off x="2742840" y="3505320"/>
            <a:ext cx="6401160" cy="3115440"/>
            <a:chOff x="2742840" y="3505320"/>
            <a:chExt cx="6401160" cy="3115440"/>
          </a:xfrm>
        </p:grpSpPr>
        <p:sp>
          <p:nvSpPr>
            <p:cNvPr id="163" name="Text Box 14"/>
            <p:cNvSpPr/>
            <p:nvPr/>
          </p:nvSpPr>
          <p:spPr>
            <a:xfrm>
              <a:off x="5181480" y="3505320"/>
              <a:ext cx="3962520" cy="3115440"/>
            </a:xfrm>
            <a:prstGeom prst="rect">
              <a:avLst/>
            </a:prstGeom>
            <a:solidFill>
              <a:srgbClr val="66ccff">
                <a:alpha val="33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ffff"/>
                  </a:solidFill>
                  <a:uFillTx/>
                  <a:latin typeface="Tahoma"/>
                  <a:ea typeface="Arial"/>
                </a:rPr>
                <a:t>Subgroups: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7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frican America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7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merican India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7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IEP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7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Low Incom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 flipH="1" flipV="1">
              <a:off x="2742840" y="4125600"/>
              <a:ext cx="2438280" cy="837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5" name="Picture 17" descr=""/>
          <p:cNvPicPr/>
          <p:nvPr/>
        </p:nvPicPr>
        <p:blipFill>
          <a:blip r:embed="rId1"/>
          <a:srcRect l="22659" t="29168" r="21876" b="19791"/>
          <a:stretch/>
        </p:blipFill>
        <p:spPr>
          <a:xfrm>
            <a:off x="0" y="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"/>
          <p:cNvPicPr/>
          <p:nvPr/>
        </p:nvPicPr>
        <p:blipFill>
          <a:blip r:embed="rId2"/>
          <a:srcRect l="22659" t="25004" r="22659" b="22917"/>
          <a:stretch/>
        </p:blipFill>
        <p:spPr>
          <a:xfrm>
            <a:off x="0" y="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"/>
          <p:cNvPicPr/>
          <p:nvPr/>
        </p:nvPicPr>
        <p:blipFill>
          <a:blip r:embed="rId3"/>
          <a:srcRect l="27971" t="63336" r="43283" b="12502"/>
          <a:stretch/>
        </p:blipFill>
        <p:spPr>
          <a:xfrm>
            <a:off x="0" y="0"/>
            <a:ext cx="38098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4:54:10Z</dcterms:created>
  <dc:creator>jmarino</dc:creator>
  <dc:description/>
  <dc:language>en-US</dc:language>
  <cp:lastModifiedBy>Sydney Brown</cp:lastModifiedBy>
  <dcterms:modified xsi:type="dcterms:W3CDTF">2011-08-10T02:27:40Z</dcterms:modified>
  <cp:revision>38</cp:revision>
  <dc:subject/>
  <dc:title>SMART GOALS</dc:title>
</cp:coreProperties>
</file>